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86A-FE20-4619-A667-550BBE62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F59-C85E-43FC-A9BF-3C9E675D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67C-18CE-4FBF-91D7-C5835A57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539-4371-4569-974F-A59E7AC4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5C3-9547-41F4-978D-8A57C064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BFCC-CF0E-47B9-87A3-00D03FFB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1DB-E67E-4AB4-83F8-096E0791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E9D-EC12-475A-80ED-984792D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881-18A4-459A-B3DF-22B3BA54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E16-F526-41D3-A589-DA9BF5D1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845-C703-4897-A0AD-C89CCBC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311-3477-44CE-951F-8CD00E54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2B7C-6CFD-4FAA-9C15-566D2F9B1C16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CABINE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C:\FOTOS_SCANIZADAS\MAQUINAS E ALFAIAS\Tractor\Cabine de segurança.jpg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C:\FOTOS_SCANIZADAS\MAQUINAS E ALFAIAS\Tractor\Tractor de 4 rodas motrizes desiguais.jpg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rcador de Posição da Imagem Online 4" descr=""/>
          <p:cNvPicPr/>
          <p:nvPr/>
        </p:nvPicPr>
        <p:blipFill>
          <a:blip r:embed="rId1"/>
          <a:stretch/>
        </p:blipFill>
        <p:spPr>
          <a:xfrm>
            <a:off x="1403280" y="609480"/>
            <a:ext cx="6015240" cy="5794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C:\FOTOS_SCANIZADAS\MAQUINAS E ALFAIAS\Tractor\Tractor de 4 rodas motrizes iguais.jpg"/>
          <p:cNvPicPr/>
          <p:nvPr/>
        </p:nvPicPr>
        <p:blipFill>
          <a:blip r:embed="rId1"/>
          <a:stretch/>
        </p:blipFill>
        <p:spPr>
          <a:xfrm>
            <a:off x="990720" y="304920"/>
            <a:ext cx="723888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DE RASTOS (LAGARTAS OU ESTEIR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FOTOS_SCANIZADAS\MAQUINAS E ALFAIAS\Tractor\Tractor de lagartas.jpg"/>
          <p:cNvPicPr/>
          <p:nvPr/>
        </p:nvPicPr>
        <p:blipFill>
          <a:blip r:embed="rId1"/>
          <a:stretch/>
        </p:blipFill>
        <p:spPr>
          <a:xfrm>
            <a:off x="457200" y="2057400"/>
            <a:ext cx="73152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C:\FOTOS_SCANIZADAS\MAQUINAS E ALFAIAS\Tractor\Tractor de rastos_pormenor.jpg"/>
          <p:cNvPicPr/>
          <p:nvPr/>
        </p:nvPicPr>
        <p:blipFill>
          <a:blip r:embed="rId1"/>
          <a:stretch/>
        </p:blipFill>
        <p:spPr>
          <a:xfrm>
            <a:off x="1447920" y="228600"/>
            <a:ext cx="5913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TRACTOR DE RODAS GÉM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C:\FOTOS_SCANIZADAS\MAQUINAS E ALFAIAS\Tractor\Tractor de rodas gemeas.jpg"/>
          <p:cNvPicPr/>
          <p:nvPr/>
        </p:nvPicPr>
        <p:blipFill>
          <a:blip r:embed="rId1"/>
          <a:stretch/>
        </p:blipFill>
        <p:spPr>
          <a:xfrm>
            <a:off x="1447920" y="1447920"/>
            <a:ext cx="609588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ESTRE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C:\FOTOS_SCANIZADAS\MAQUINAS E ALFAIAS\Tractor\Tractor estreito.jpg"/>
          <p:cNvPicPr/>
          <p:nvPr/>
        </p:nvPicPr>
        <p:blipFill>
          <a:blip r:embed="rId1"/>
          <a:stretch/>
        </p:blipFill>
        <p:spPr>
          <a:xfrm>
            <a:off x="1752480" y="1295280"/>
            <a:ext cx="53341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RACTOR FL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FOTOS_SCANIZADAS\MAQUINAS E ALFAIAS\Tractor\Tractor florestal.jpg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PERNA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C:\FOTOS_SCANIZADAS\MAQUINAS E ALFAIAS\Tractor\Tractor pernalta.jpg"/>
          <p:cNvPicPr/>
          <p:nvPr/>
        </p:nvPicPr>
        <p:blipFill>
          <a:blip r:embed="rId1"/>
          <a:stretch/>
        </p:blipFill>
        <p:spPr>
          <a:xfrm>
            <a:off x="990720" y="1523880"/>
            <a:ext cx="7315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FORMAÇÃO PROFISSIONAL\Imagens de Apoio\Cores\Tractor\Constituição.jpg"/>
          <p:cNvPicPr/>
          <p:nvPr/>
        </p:nvPicPr>
        <p:blipFill>
          <a:blip r:embed="rId1"/>
          <a:stretch/>
        </p:blipFill>
        <p:spPr>
          <a:xfrm>
            <a:off x="304920" y="228600"/>
            <a:ext cx="86248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ARCO DE SEGURANÇA OU PÓR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FOTOS_SCANIZADAS\MAQUINAS E ALFAIAS\Tractor\Arco de segurança tipo pórtico.jpg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FORMAÇÃO PROFISSIONAL\Imagens de Apoio\Cores\Tractor\Utiização.jpg"/>
          <p:cNvPicPr/>
          <p:nvPr/>
        </p:nvPicPr>
        <p:blipFill>
          <a:blip r:embed="rId1"/>
          <a:stretch/>
        </p:blipFill>
        <p:spPr>
          <a:xfrm>
            <a:off x="228600" y="457200"/>
            <a:ext cx="83818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FORMAÇÃO PROFISSIONAL\Imagens de Apoio\Cores\Tractor\Utiização1.jpg"/>
          <p:cNvPicPr/>
          <p:nvPr/>
        </p:nvPicPr>
        <p:blipFill>
          <a:blip r:embed="rId1"/>
          <a:stretch/>
        </p:blipFill>
        <p:spPr>
          <a:xfrm>
            <a:off x="533520" y="533520"/>
            <a:ext cx="8324640" cy="60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FORMAÇÃO PROFISSIONAL\Imagens de Apoio\Cores\Tractor\Utiização2.jpg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R DE ARRAN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C:\FOTOS_SCANIZADAS\MAQUINAS E ALFAIAS\Tractor\Motor de arranque.jpg"/>
          <p:cNvPicPr/>
          <p:nvPr/>
        </p:nvPicPr>
        <p:blipFill>
          <a:blip r:embed="rId1">
            <a:grayscl/>
          </a:blip>
          <a:stretch/>
        </p:blipFill>
        <p:spPr>
          <a:xfrm>
            <a:off x="1523880" y="1523880"/>
            <a:ext cx="5410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SISTEMA HIDRÁUL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C:\FOTOS_SCANIZADAS\MAQUINAS E ALFAIAS\Tractor\Sistema hidraulico.jpg"/>
          <p:cNvPicPr/>
          <p:nvPr/>
        </p:nvPicPr>
        <p:blipFill>
          <a:blip r:embed="rId1"/>
          <a:stretch/>
        </p:blipFill>
        <p:spPr>
          <a:xfrm>
            <a:off x="304920" y="1219320"/>
            <a:ext cx="8305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4 TEMPOS DO 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609480" y="1828800"/>
          <a:ext cx="762012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2012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QUADRO DE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FOTOS_SCANIZADAS\MAQUINAS E ALFAIAS\Tractor\Quadro de Segurança.jpg"/>
          <p:cNvPicPr/>
          <p:nvPr/>
        </p:nvPicPr>
        <p:blipFill>
          <a:blip r:embed="rId1"/>
          <a:stretch/>
        </p:blipFill>
        <p:spPr>
          <a:xfrm>
            <a:off x="1600200" y="1600200"/>
            <a:ext cx="62485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ICROTR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C:\FOTOS_SCANIZADAS\MAQUINAS E ALFAIAS\Tractor\Microtractor.jpg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CULTIV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C:\FOTOS_SCANIZADAS\MAQUINAS E ALFAIAS\Tractor\Motocultivador.jpg"/>
          <p:cNvPicPr/>
          <p:nvPr/>
        </p:nvPicPr>
        <p:blipFill>
          <a:blip r:embed="rId1"/>
          <a:stretch/>
        </p:blipFill>
        <p:spPr>
          <a:xfrm>
            <a:off x="1905120" y="1828800"/>
            <a:ext cx="510516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ENX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C:\FOTOS_SCANIZADAS\MAQUINAS E ALFAIAS\Tractor\Motoenxada.jpg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OTOGADANHEI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FOTOS_SCANIZADAS\MAQUINAS E ALFAIAS\Tractor\Motogadanheira.jpg"/>
          <p:cNvPicPr/>
          <p:nvPr/>
        </p:nvPicPr>
        <p:blipFill>
          <a:blip r:embed="rId1"/>
          <a:stretch/>
        </p:blipFill>
        <p:spPr>
          <a:xfrm>
            <a:off x="1295280" y="1523880"/>
            <a:ext cx="64771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TRACTOR 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C:\FOTOS_SCANIZADAS\MAQUINAS E ALFAIAS\Tractor\Tractor articulado.jpg"/>
          <p:cNvPicPr/>
          <p:nvPr/>
        </p:nvPicPr>
        <p:blipFill>
          <a:blip r:embed="rId1"/>
          <a:stretch/>
        </p:blipFill>
        <p:spPr>
          <a:xfrm>
            <a:off x="457200" y="1523880"/>
            <a:ext cx="792468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FOTOS_SCANIZADAS\MAQUINAS E ALFAIAS\Tractor\Tractor de 2 rodas motrizes.jpg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6:55Z</dcterms:modified>
  <cp:revision>7</cp:revision>
  <dc:subject/>
  <dc:title>ARCO DE SEGURANÇA OU PÓRTICO</dc:title>
</cp:coreProperties>
</file>